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media/image2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F8E-D279-4DED-A59E-8B95D1E5DC4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8457-4632-48CD-9BB1-9D49871EF36B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49F-1678-48D5-8520-49FD4165FB1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6826-3619-4DB8-9CC8-0CBD2FECC308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58F7-C41B-432F-9B65-C6214F2B7A96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8CCD-9AD9-4AC3-A2F0-1FA24DF91B5B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1FD-F114-4905-9AF0-AA2927331F84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AD8-E060-4236-8D6F-32B254261A7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796-C06B-4173-82AE-6CEEB4F5C77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D14-1CBF-4257-A377-FC30C1F6136A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0F2-3034-4BDF-AC2E-22CADA605E6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27B2-D146-4C9C-A803-827C14CEFB58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3B4-4229-4BCF-8282-E9D8AD3F46F3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251-CD93-43C1-B31C-5B6774950D8F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3758-C376-473E-961A-96B1810FE966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5BA-0598-456B-954F-74B0FF11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9A3-691E-4742-A82E-840ED1D3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4A7-3DF3-499E-9987-1D283B66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6F8-BF68-47AE-8125-017984F5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109-5DCD-4CC2-ACA2-37263014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4A59-91E9-48FF-95E9-28C10D1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DDD4-1628-48B7-946B-02A5AFB1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E6C5-279A-47FD-AAF9-B3BA878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0DD-A43F-4B44-93F9-436634C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50E-EC7D-4A19-A903-A7486DC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17C-5169-4B2F-9D88-B28A79B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471-6766-47CD-9F7B-1D422BC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5E3-C72B-4ED7-8191-693B2E9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CC59-651D-4237-AB92-387C6E4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AE54-4146-450B-AEFE-344EA6A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25D9-3C7C-4ADB-A218-FE7F6F3D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481D-4998-4AE2-857C-60EAA6DD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FB86-641D-402A-92DF-094D012A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9EF7-DA40-4A7D-831A-21F08EBF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C0B5-57C9-4937-93CC-B45384E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948C-AC4D-4FA5-A0CC-A49E216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ED33-5E74-40B2-938D-F30020EA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C12-7758-4401-B895-1002CB69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CF09-8E05-4BC9-95F8-F2945656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D9C1-4C5C-4D29-8A8F-BE974E6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D401-B0B5-4586-9602-51B4CF4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E197-FA79-41F3-9092-A028F6F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B2D1-0F86-4896-88A1-6B05085B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2856-2463-427B-BE20-4417CEC4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3782-9CEF-4923-8F63-D1531CDC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EAE-2023-41BB-B528-F9408F42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D59-CE2B-4DC3-B180-6582805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D2F-D6CA-4195-B130-157EA27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68B-1BC5-4EAA-B122-E9A7C23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222-1078-43E6-B75D-37264A5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BA2-8210-4E5F-9EDB-F0AF5A9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071-7AB0-4F0D-BC03-1A9057C03497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0158-335D-445B-B84F-5135B48BF62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355F-124F-4623-B896-43844881CFAF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031-2C19-4D42-A290-456788947A6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A64E-AAE4-42AF-ACC7-4D98056684D5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CF6-371A-4F2A-B93A-164941ED436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3880" y="642960"/>
            <a:ext cx="77439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 u="sng">
                <a:solidFill>
                  <a:srgbClr val="000000"/>
                </a:solidFill>
                <a:uFillTx/>
                <a:latin typeface="Calibri"/>
              </a:rPr>
              <a:t>A nyomástartó berendezések hatósági felügyelete</a:t>
            </a:r>
            <a:br>
              <a:rPr sz="4800"/>
            </a:br>
            <a:br>
              <a:rPr sz="48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a nyomástartó edények besorolása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hatósági engedélyek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hatósági vizsgálatok és ezek előkészítése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teendők sérülés, robbanás esetén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NYBMBSZ.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sszeállította: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Demjén Lajo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űszaki-biztonsági szakügyintéz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akértő főtanác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töltet (veszélyességi) csoportja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42600" y="1000080"/>
            <a:ext cx="38862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töltet az 1. csoportba tartozik és veszélyes töltetnek minősü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. instabil robbanóanyagok vagy az 1.1., 1.2., 1.3., 1.4. és 1.5. alosztályba tartozó robbanóanyagok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2. tűzveszélyes gázok, 1. és 2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3. oxidáló gázok, 1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4. tűzveszélyes folyadékok, 1. és 2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5. azok a 3. kategóriába tartozó tűzveszélyes folyadékok, amelyek legnagyobb megengedett hőmérséklete a lobbanáspont fölött va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6. tűzveszélyes szilárd anyagok, 1. és 2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7. önreaktív anyagok vagy keverékek, A-F típu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8. piroforos folyadékok, 1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9. piroforos szilárd anyagok, 1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2920" y="1071360"/>
            <a:ext cx="38862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0. vízzel érintkezve tűzveszélyes gázokat kibocsátó anyagok és keverékek, 1., 2. és 3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1. oxidáló folyadékok, 1., 2. és 3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2. oxidáló szilárd anyagok, 1., 2. és 3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3. szerves peroxidok, A-F típu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4. akut orális toxicitás, 1. és 2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5. akut dermális toxicitás, 1. és 2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6. akut inhalációs toxicitás, 1., 2. és 3. kateg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17. célszervi toxicitás – egyszeri expozí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 Black"/>
              </a:rPr>
              <a:t>2. csoport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-minden ami nem 1. csopo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C89E-DBE8-4D7F-89CC-1CCE92F86DA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7102440" y="5213520"/>
            <a:ext cx="1982880" cy="1594800"/>
            <a:chOff x="7102440" y="5213520"/>
            <a:chExt cx="1982880" cy="1594800"/>
          </a:xfrm>
        </p:grpSpPr>
        <p:sp>
          <p:nvSpPr>
            <p:cNvPr id="187" name="AutoShape 7"/>
            <p:cNvSpPr/>
            <p:nvPr/>
          </p:nvSpPr>
          <p:spPr>
            <a:xfrm>
              <a:off x="7579800" y="5538960"/>
              <a:ext cx="1021680" cy="977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7102440" y="6482880"/>
              <a:ext cx="587160" cy="32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7800120" y="5213520"/>
              <a:ext cx="587160" cy="32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8498160" y="6482880"/>
              <a:ext cx="587160" cy="32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A folyamat célja:</a:t>
            </a:r>
            <a:br>
              <a:rPr sz="3200"/>
            </a:br>
            <a:br>
              <a:rPr sz="1300"/>
            </a:br>
            <a:br>
              <a:rPr sz="1300"/>
            </a:br>
            <a:r>
              <a:rPr b="0" lang="hu-HU" sz="1300" spc="-1" strike="noStrike">
                <a:solidFill>
                  <a:srgbClr val="000000"/>
                </a:solidFill>
                <a:latin typeface="Arial Black"/>
              </a:rPr>
              <a:t>Az EURÓPAI MEGFELELŐSÉ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CE j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File0104"/>
          <p:cNvPicPr/>
          <p:nvPr/>
        </p:nvPicPr>
        <p:blipFill>
          <a:blip r:embed="rId1"/>
          <a:stretch/>
        </p:blipFill>
        <p:spPr>
          <a:xfrm>
            <a:off x="1258920" y="2421000"/>
            <a:ext cx="6885000" cy="3529080"/>
          </a:xfrm>
          <a:prstGeom prst="rect">
            <a:avLst/>
          </a:prstGeom>
          <a:ln w="0">
            <a:noFill/>
          </a:ln>
        </p:spPr>
      </p:pic>
      <p:sp>
        <p:nvSpPr>
          <p:cNvPr id="194" name="Dia számának helye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B05-DE05-41C5-81DE-FB11BD73311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C:\Users\Apa\AppData\Local\Microsoft\Windows\INetCache\IE\42Y3EGE9\1280px-Conformité_Européenne_(logo).svg[1].png"/>
          <p:cNvPicPr/>
          <p:nvPr/>
        </p:nvPicPr>
        <p:blipFill>
          <a:blip r:embed="rId2"/>
          <a:stretch/>
        </p:blipFill>
        <p:spPr>
          <a:xfrm>
            <a:off x="7812000" y="163440"/>
            <a:ext cx="1332000" cy="951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Nyomástartó edény</a:t>
            </a:r>
            <a:br>
              <a:rPr sz="32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tervezés, gyártás, megfelelőség értékelés</a:t>
            </a:r>
            <a:br>
              <a:rPr sz="1400"/>
            </a:b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 Black"/>
              </a:rPr>
              <a:t>NYOMÁSTARTÓ EDÉNYEK BESOROL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Korább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eszélyességi osztály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 = V×p×k×(c+f+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veszélyesség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özépveszélyesség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agyveszélyesség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 Black"/>
              </a:rPr>
              <a:t>Ma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egfelelőség értékelési eljárás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egnagyobb megengedhető nyomása (PS), 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Térfogata (V), vagy névleges mérete (D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értelemszerűen kiválasztv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S×V = [bar × liter] é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Töltetcsoportja szeri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érték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(a rendelet kilenc ábrája    valamelyikéhez rend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C86-2559-46F9-BB53-8CEF515795B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:\Users\Apa\AppData\Local\Microsoft\Windows\INetCache\IE\JVKIMXR4\150px-Methanol.pdb[1].png"/>
          <p:cNvPicPr/>
          <p:nvPr/>
        </p:nvPicPr>
        <p:blipFill>
          <a:blip r:embed="rId1"/>
          <a:stretch/>
        </p:blipFill>
        <p:spPr>
          <a:xfrm>
            <a:off x="971640" y="530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ategóriák – Vizsgálati modulok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4/2016. (XI.28.) NGM rendelet</a:t>
            </a: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I. = A modu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II. =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2, D1, E1 modulok</a:t>
            </a:r>
            <a:r>
              <a:rPr b="1" lang="hu-HU" sz="2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Black"/>
              </a:rPr>
              <a:t>III. =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 (tervezési típus) + D,      B (tervezési típus) + F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 (gyártási típus) + E,     B (gyártási típus) + C2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H modulok</a:t>
            </a:r>
            <a:r>
              <a:rPr b="1" lang="hu-HU" sz="2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Black"/>
              </a:rPr>
              <a:t>IV. =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 (gyártási típus) + D,     B (gyártási típus) + F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G,    H1 modulok</a:t>
            </a:r>
            <a:r>
              <a:rPr b="1" lang="hu-H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u-HU" sz="2400" spc="-1" strike="noStrike">
                <a:solidFill>
                  <a:srgbClr val="0000ff"/>
                </a:solidFill>
                <a:latin typeface="Calibri"/>
              </a:rPr>
              <a:t>Az alkalmazandó megfelelőség értékelési eljárást az dönti el, hogy a nyomástartó berendezést mely diagramhoz rendelték hozzá és a diagramon mely veszélyességi kategóriába tartoz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F636-0745-40BF-935D-19EF7004E48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5" descr="C:\Users\Apa\AppData\Local\Microsoft\Windows\INetCache\IE\JVKIMXR4\1200px-BR-DasModul-Logo.svg[1].png"/>
          <p:cNvPicPr/>
          <p:nvPr/>
        </p:nvPicPr>
        <p:blipFill>
          <a:blip r:embed="rId1"/>
          <a:stretch/>
        </p:blipFill>
        <p:spPr>
          <a:xfrm>
            <a:off x="7164360" y="1019160"/>
            <a:ext cx="197964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 Black"/>
              </a:rPr>
              <a:t>213/2019. (VIII.27.) Korm.  rendelet</a:t>
            </a:r>
            <a:br>
              <a:rPr sz="3200"/>
            </a:b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nyomástartó berendezések, rendszerek és létesítmények műszaki-biztonsági hatósági felügyeletérő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atály: E rendelet hatálya kiterjed a műszaki biztonsági hatóságokról szóló 365/2016. (XI. 29.) Korm. rendeletben meghatározott műszaki biztonsági hatóság hatósági felügyelete alá tartozó, veszélyességi határértéket meghaladó nyomástartó berendezés, b) töltő berendezés, c) kisteljesítményű sűrített gáztöltő berendezés létesítésé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tervező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létesítés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üzembe helyezés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üzembe vétel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üzemeltetés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átalakításá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javításá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időszakos ellenőrző vizsgálatát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és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megszüntetés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végző természetes személyre, gazdálkodó szervezet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lkalmazási kör: azon nyomástartó berendezések, rendszerek, létesítmények, szállítható nyomástartó berendezések és töltőlétesítmények, amelyekben  legnagyobb megengedhető nyomás több, mint 0,5 [bar] – KIVÉTEL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F779-1DC5-4AC0-A263-44A10C050EB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 Black"/>
              </a:rPr>
              <a:t>213/2019. (VIII.27.) Korm.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A rendelet alkalmazási köre nem terjed 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nyomástartó berendezések tervezésére, gyártására és megfelelőségértékelésére, továbbá piacfelügyeleté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veszélyes áruk szállítására használt szállítható nyomástartó berendezések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bányafelügyelet hatáskörébe tartozó nyomástartó berendezésekre, beleértve a fogyasztóknál elhelyezett cseppfolyósított propán-bután gázkeveréket tartalmazó nyomástartó berendezéseket i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közlekedési hatóság hatáskörébe tartozó nyomástartó berendezések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nukleáris biztonsági hatóság hatáskörébe tartozó nyomástartó berendezések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vízellátás, -elosztás és -elvezetés hálózatára és kapcsolódó berendezéseire, a vízerőműi üzemvíz-létesítményekre, valamint a tűzivíz-ellátás berendezései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z aeroszol termékre és aeroszol csomagolásr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járművek működéséhez készült berendezésre az autógáztartályok kivételével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 gépbe, felvonóba, villamossági termékbe, orvostechnikai eszközbe, gázfogyasztó készülékbe, robbanásveszélyes környezetben történő alkalmazásra szánt berendezésbe vagy védelmi rendszerbe épített veszélyes töltetű nyomástartó berendezések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haditechnikai célú berendezésr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nyomástartó létesítményhez csatlakozó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csővezetékre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A2A-1BF7-45B7-9A94-739BB2F92E0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C:\Users\Apa\AppData\Local\Microsoft\Windows\INetCache\IE\RY803IYK\1034px-ADR_3.svg[1].png"/>
          <p:cNvPicPr/>
          <p:nvPr/>
        </p:nvPicPr>
        <p:blipFill>
          <a:blip r:embed="rId1"/>
          <a:stretch/>
        </p:blipFill>
        <p:spPr>
          <a:xfrm>
            <a:off x="7753320" y="0"/>
            <a:ext cx="1427040" cy="141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Apa\AppData\Local\Microsoft\Windows\INetCache\IE\RY803IYK\Japanese_Type_90_Tank_-_2[1].jpg"/>
          <p:cNvPicPr/>
          <p:nvPr/>
        </p:nvPicPr>
        <p:blipFill>
          <a:blip r:embed="rId2"/>
          <a:stretch/>
        </p:blipFill>
        <p:spPr>
          <a:xfrm>
            <a:off x="6084720" y="5589720"/>
            <a:ext cx="1692360" cy="842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Nem terjed k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2. a gépi berendezés olyan házára és részére, amelynek méretezési, anyagkiválasztási és gyártási előírásai elsősorban a statikus vagy dinamikus üzemi igénybevétel követelményeit kielégítő szilárdsági, merevségi, stabilitási és egyéb működési kritériumokon alapulnak, és amelyeknél nem a nyomás a meghatározó tervezési tényező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3. a nagyolvasztóra, kupolókemencére, a gázkonverterre, valamint az acél és nemvas fémek olvasztó, újraolvasztó, gáztalanító és öntő üstjé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4. a nagyfeszültségű berendezés nyomással igénybe vett házá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5. a villamos vezeték és telefonkábel nyomással igénybe vett burkolatá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6. a hajó, rakéta, légi jármű és mozgó tengeri bázis speciálisan fedélzeti beszerelésre vagy meghajtásra tervezett nyomástartó berendezései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7. a hajlékony burkolatú nyomástartó berendezések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8. a kiáramló és beszívó jellegű hangtompítók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19. a szénsavas italok palackjára és dobozá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20. az ital szállítására és árusítására használatos edények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21. a meleg víz fűtőrendszerekhez tartozó fűtőtestre és csővezeték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655-68BC-436D-A92C-7EE55A1C0DC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Apa\AppData\Local\Microsoft\Windows\INetCache\IE\JVKIMXR4\MAV_Trains[1].jpg"/>
          <p:cNvPicPr/>
          <p:nvPr/>
        </p:nvPicPr>
        <p:blipFill>
          <a:blip r:embed="rId1"/>
          <a:stretch/>
        </p:blipFill>
        <p:spPr>
          <a:xfrm>
            <a:off x="7812000" y="-27000"/>
            <a:ext cx="132732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pa\AppData\Local\Microsoft\Windows\INetCache\IE\42Y3EGE9\Ronal[1].jpg"/>
          <p:cNvPicPr/>
          <p:nvPr/>
        </p:nvPicPr>
        <p:blipFill>
          <a:blip r:embed="rId2"/>
          <a:stretch/>
        </p:blipFill>
        <p:spPr>
          <a:xfrm>
            <a:off x="7667640" y="5661000"/>
            <a:ext cx="1336680" cy="10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Nem terjed k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22. a hordozható tűzoltó készülékek palackjaira és a légzőkészülékek palackjaira a (3) bekezdésben meghatározott esetkör kivételéve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23. a folyadéktöltetű nyomástartó berendezésre, ha a gázterének nyomása legfeljebb 0,5 b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ED5-61A9-4944-984D-CEEE17949BE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Apa\AppData\Local\Microsoft\Windows\INetCache\IE\WGC4L4EV\fortepan_39617[1].jpg"/>
          <p:cNvPicPr/>
          <p:nvPr/>
        </p:nvPicPr>
        <p:blipFill>
          <a:blip r:embed="rId1"/>
          <a:stretch/>
        </p:blipFill>
        <p:spPr>
          <a:xfrm>
            <a:off x="468360" y="2643120"/>
            <a:ext cx="2703600" cy="1660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Apa\AppData\Local\Microsoft\Windows\INetCache\IE\JVKIMXR4\Aegean_Airlines_Boeing_737-400[1].jpg"/>
          <p:cNvPicPr/>
          <p:nvPr/>
        </p:nvPicPr>
        <p:blipFill>
          <a:blip r:embed="rId2"/>
          <a:stretch/>
        </p:blipFill>
        <p:spPr>
          <a:xfrm>
            <a:off x="3419640" y="2630520"/>
            <a:ext cx="2520720" cy="168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Users\Apa\AppData\Local\Microsoft\Windows\INetCache\IE\NXVB7513\d4f73cf1ed6216d3222e1bfbb645916b_e1b1c3ea48a3c07745d4b1e5a2e14014[1].jpg"/>
          <p:cNvPicPr/>
          <p:nvPr/>
        </p:nvPicPr>
        <p:blipFill>
          <a:blip r:embed="rId3"/>
          <a:stretch/>
        </p:blipFill>
        <p:spPr>
          <a:xfrm>
            <a:off x="6659640" y="515772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 Black"/>
              </a:rPr>
              <a:t>213/2019. (I.5.) Korm.rendele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nyomástartó berendezések, rendszerek és létesítmények műszaki-biztonsági hatósági felügyeletérő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hatóság engedélyével leh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állandó helyre telepített nyomástartó berendezést, töltő berendezést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létesíte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nyomástartó berendezést, töltő berendezést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üzembe ven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nyomástartó berendezést, töltő berendezést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javítás után 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– ha a javítás annak műszaki biztonsági szintjét hátrányosan befolyásolhatja –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ismételten üzembe ven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d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nyomástartó berendezést, töltő berendezést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átalakítást követően 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– új megfelelőségtanúsítás esetén is –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üzembe ven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e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nyomástartó berendezés, töltő berendezés ellenőrző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vizsgálati ciklusidejét megváltoztat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f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nyomástartó berendezés, töltő berendezés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ellenőrző vizsgálati határnapját megváltoztat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g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használaton kívül helyezett 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nyomástartó berendezést, töltő berendezést 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ismételten üzembe ven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Calibri"/>
              </a:rPr>
              <a:t>h)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1900" spc="-1" strike="noStrike" u="sng">
                <a:solidFill>
                  <a:srgbClr val="000000"/>
                </a:solidFill>
                <a:uFillTx/>
                <a:latin typeface="Calibri"/>
              </a:rPr>
              <a:t>üzemeltetői ellenőrző szervezetet működtetni</a:t>
            </a: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68F-E0DB-49AF-BEE3-BF2D1874384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C:\Users\Apa\AppData\Local\Microsoft\Windows\INetCache\IE\RY803IYK\Coat_of_arms_of_Hungary[1].png"/>
          <p:cNvPicPr/>
          <p:nvPr/>
        </p:nvPicPr>
        <p:blipFill>
          <a:blip r:embed="rId1"/>
          <a:stretch/>
        </p:blipFill>
        <p:spPr>
          <a:xfrm>
            <a:off x="8269200" y="-27000"/>
            <a:ext cx="91116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z üzemeltető a Hatóságnak bejel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a nyomástartó berendezés, töltő berendezés üzemeltetésének tartós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szüneteltetésé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a nyomástartó berendezés, töltő berendezés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megszüntetésé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a nyomástartó berendezés, töltő berendezés műszaki biztonságát érintő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javításá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d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nyomástartó berendezés, töltő berendezés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átalakításá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e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e rendelet alkalmazási körébe tartozó berendezéseket érintő, bekövetkezett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rendkívüli esemény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FFC-4F92-4F57-82DB-7C20B362134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A jelen időszak szabályozá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Nyomástartó berendezés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EU – IRÁNYE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 Black"/>
              </a:rPr>
              <a:t>P E D – P(ressure) E(quipments) D(irektiv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Tervez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Gyárt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Megfelelőség értéke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EU TANÚSÍT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604-0A6F-4049-9943-18D41FF03B3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Apa\AppData\Local\Microsoft\Windows\INetCache\IE\42Y3EGE9\european-union-1328255_960_720[1].png"/>
          <p:cNvPicPr/>
          <p:nvPr/>
        </p:nvPicPr>
        <p:blipFill>
          <a:blip r:embed="rId1"/>
          <a:stretch/>
        </p:blipFill>
        <p:spPr>
          <a:xfrm>
            <a:off x="6781680" y="5359320"/>
            <a:ext cx="2362320" cy="14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 Black"/>
              </a:rPr>
              <a:t>213/2019. Korm. rende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Létesítési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engedélyezési eljárá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helyhez kötötten üzemeltetett nyomástartó berendezések, töltő berendezések telepítése létesítési engedélyhez kötött. A létesítési engedély iránti kérelmet az üzemeltető nyújtja be az illetékes (!) területi szervezeth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érelemhez két (?) példányban mellékelni kell: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létesítményt ismertető engedélyezési dokumentáció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nyomástartó berendezés, töltő berendezés létesítésének helyét, rendeltetésé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létesítési tevékenységgel érintett ingatlan helyrajzi számát, tulajdonosának nevét címé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z üzemeltető nevét, címé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tervező nevét, címét és tervezői jogosultságá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általános elrendezési terve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űszaki leírást (tervet) és tervrajzoka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tervező nyilatkozatát (szakterületenként) egy példányb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ulajdoni lap, (tulajdonosi hozzájáruló nyilatkozat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akhatósági hozzájárulások, közműegyeztetések dokumentuma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azán esetében a vízelőkészítő berendezés leírását, valamint a rendeltetési célra való alkalmasság igazolását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FAC-1A24-43C4-ACBE-3B98DC76A19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3" descr="C:\Program Files\Microsoft Office\MEDIA\CAGCAT10\j0291984.wmf"/>
          <p:cNvPicPr/>
          <p:nvPr/>
        </p:nvPicPr>
        <p:blipFill>
          <a:blip r:embed="rId1"/>
          <a:stretch/>
        </p:blipFill>
        <p:spPr>
          <a:xfrm>
            <a:off x="7164360" y="393372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 Black"/>
              </a:rPr>
              <a:t>213/2019. Korm. rende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Üzembe vételi engedélyezési eljárás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érelmet az üzemeltető vagy megbízottja írásban kezdeményezi a területi szervezetné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Feltétel: a létesítési engedély megléte (kivéve a mobil nyom.t.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üzembevételi engedélyezési eljárás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helyszíni ellenőrzés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eretében végzi a hatóság. Ellenőrz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A létesítési engedély feltételeinek teljesülését, berendezés állapotá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- A létesítmény rendeltetésszerű és biztonságos használatra való     alkalmasságának feltételeit, biztonsági szelepet, tömörség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nyomástartó berendezés R.-ben előír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megfelelőségi tanúsítványát (hamisítása bűncselekmény! Btk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nyomástartó létesítmény esetén az üzemeltetési utasítást, BNY-l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gvalósulási tervet, és az eltérésre vonatkozó tervezői jóváhagyá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lőírt esetleges ellenőrzések és vizsgálatok bizonylatait, jegyzőkönyve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iértékelt próbaüzemeltetés lefolytatásának igazolásá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z érdekelt közmű üzemeltető és a kéményseprő-ipari közszolgáltató írásbeli hozzájáruló nyilatkozata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ivitelezői nyilatkozatok, érintés- és villámvédel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+ szakhatóságok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505-C2A6-4A4F-ACDF-C8C7607B306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6" descr="C:\Users\Apa\AppData\Local\Microsoft\Windows\INetCache\IE\42Y3EGE9\Modified_Hanson_steelwatertank[1].jpg"/>
          <p:cNvPicPr/>
          <p:nvPr/>
        </p:nvPicPr>
        <p:blipFill>
          <a:blip r:embed="rId1"/>
          <a:stretch/>
        </p:blipFill>
        <p:spPr>
          <a:xfrm>
            <a:off x="6804000" y="-12600"/>
            <a:ext cx="2367000" cy="1353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C:\Users\Apa\AppData\Local\Microsoft\Windows\INetCache\IE\WGC4L4EV\300px-Gaskessel_gr[1].jpg"/>
          <p:cNvPicPr/>
          <p:nvPr/>
        </p:nvPicPr>
        <p:blipFill>
          <a:blip r:embed="rId2"/>
          <a:stretch/>
        </p:blipFill>
        <p:spPr>
          <a:xfrm>
            <a:off x="7956720" y="4103640"/>
            <a:ext cx="11905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Egyszerű nyomástartó edé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szerű nyomástartó edény minden olyan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levegő vagy nitrogén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befogadására szolgáló hegesztett edény, amelynek belső túlnyomása nagyobb, mint 0,5 bar, és nincs kitéve tüzelés hatásának, továbbá a nyomással igénybe vett alkotórészei és csatlakozásai ötvözetlen minőségi acélból, ötvözetlen alumíniumból vagy öregedésálló alumíniumötvözetekből készültek. Az egyszerű nyomástartó edény domború vagy sík fenekekkel lezárt körhenger, amennyiben a két fenék és a hengeres rész forgástengelye közös, vagy két közös forgástengelyű kifelé domború fenékből készül,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legnagyobb üzemi nyomása legfeljebb 30 bar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, és e nyomásból és a térfogatából képzett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PS x V szorzat legfeljebb 10 000 bar x liter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, valamint a legkisebb üzemi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hőmérséklet nem kisebb, mint –50 °C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, a legnagyobb üzemi hőmérséklet pedig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acél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edények esetében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legfeljebb 300 °C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, az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alumíniumból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vagy alumíniumötvözetből készült edények esetén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legfeljebb 100 °C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0000"/>
                </a:solidFill>
                <a:latin typeface="Calibri"/>
              </a:rPr>
              <a:t>Egyszerűsített a gyártás </a:t>
            </a:r>
            <a:r>
              <a:rPr b="0" lang="hu-HU" sz="1600" spc="-1" strike="noStrike" u="sng">
                <a:solidFill>
                  <a:srgbClr val="ff0000"/>
                </a:solidFill>
                <a:uFillTx/>
                <a:latin typeface="Calibri"/>
              </a:rPr>
              <a:t>és megszűnt a hatósági eljárás</a:t>
            </a:r>
            <a:r>
              <a:rPr b="0" lang="hu-HU" sz="16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Létesítési eljárás nem szükséges, 2019. 10. 27-től üzembevételi engedély sem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ivétel a nem nyílt térben elhelyezett és üzemeltetett nitrogéngáz-tartály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áztöltetű nyomástartó edény – az 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e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alpontban meghatározottak, valamint a szabadtéren elhelyezett olyan nitrogéntöltetű nyomástartó edények kivételével, amelyek esetében a PS x V szorzat nem nagyobb, mint 10 000 bar x liter –, amelynek töltete nem veszélyes töltet: ha a nyomása (PS) nagyobb, mint 0,5 bar, térfogata (V) nagyobb, mint 50 liter és a PS x V szorzat nagyobb, mint 10 000 bar x liter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P x V 10000 alatt nincs engedélyezés!!! (?) (pl. 11 bar 900 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919-9806-4C84-8AAE-94477C53CE3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" descr="C:\Users\Apa\AppData\Local\Microsoft\Windows\INetCache\IE\JVKIMXR4\Rumtopf%20edény[1].jpg"/>
          <p:cNvPicPr/>
          <p:nvPr/>
        </p:nvPicPr>
        <p:blipFill>
          <a:blip r:embed="rId1"/>
          <a:stretch/>
        </p:blipFill>
        <p:spPr>
          <a:xfrm>
            <a:off x="7667640" y="3141720"/>
            <a:ext cx="109368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Calibri"/>
              </a:rPr>
              <a:t>Időszakos ellenőrzés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 ciklusidő az egyes létesítményeknél, töltő berendezéseknél, hordozható tűzoltó készülék és légzőkészülék palackoknál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általában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a következő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) Az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üzemeltetési ellenőrző vizsgálatot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z üzembevételi engedély véglegessé válását, továbbá az időszakos szerkezeti ellenőrző vizsgálatokat követő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három éven belü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szerkezeti ellenőrző vizsgálatot 5 évenként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szilárdsági ellenőrző vizsgálatot tíz évenként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kell elvégezni a nyomástartó berendezések és az azokhoz tartozó csővezetékek (?) esetében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) A túlhevülési veszély lehetőségével üzemelő, tüzeléssel vagy más módon fűtött, nagyobb, mint 110 °C hőmérsékletű gőz vagy forró víz előállítására szolgáló, vagy más technológiai célra igénybevett nyomástartó berendezés, továbbá minden nyomással igénybe vett főzőedény, ha a nyomása (PS) nagyobb, mint 0,5 bar, térfogata (V) nagyobb, mint 25 liter és a PS x V szorzat nagyobb, mint 1000 bar x liter, üzemeltetési ellenőrző vizsgálatát – az időszakos szerkezeti ellenőrző vizsgálatok éveit kivéve –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évenként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szerkezeti ellenőrző vizsgálatát három évenként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szilárdsági ellenőrző vizsgálatát kilenc éve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c) A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töltő berendezés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üzem közbeni üzemeltetési ellenőrző vizsgálatát legalább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öt évenként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kell elvégez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d) A hordozható tűzoltó készülék palackjának és a légzőkészülék palackjának szerkezeti és szilárdsági ellenőrző vizsgálatát a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gyártó által előírt időközönként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kell elvégezn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 Hatóság az ellenőrző vizsgálatok megállapításainak és az üzemeltetés körülményeinek figyelembevételével – a nyomástartó berendezés, töltő berendezés állapota alapján – a ciklusidőt indokolt esetben a vizsgálati tervben rögzítve módosíthatja. Az ellenőrzés műszaki biztonsági feltételeit az </a:t>
            </a:r>
            <a:r>
              <a:rPr b="0" lang="hu-HU" sz="1400" spc="-1" strike="noStrike" u="sng">
                <a:solidFill>
                  <a:srgbClr val="000000"/>
                </a:solidFill>
                <a:uFillTx/>
                <a:latin typeface="Calibri"/>
              </a:rPr>
              <a:t>üzemeltető biztosítja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Ha a soron kívüli ellenőrző vizsgálat tartalma megfelel az időszakos ellenőrző vizsgálat műszaki terjedelmének, akkor a következő időszakos ellenőrző vizsgálat ciklusideje újra kezdődik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84807"/>
                </a:solidFill>
                <a:latin typeface="Calibri"/>
              </a:rPr>
              <a:t>Az időszakos ellenőrző vizsgálat </a:t>
            </a:r>
            <a:r>
              <a:rPr b="0" lang="hu-HU" sz="1400" spc="-1" strike="noStrike" u="sng">
                <a:solidFill>
                  <a:srgbClr val="984807"/>
                </a:solidFill>
                <a:uFillTx/>
                <a:latin typeface="Calibri"/>
              </a:rPr>
              <a:t>ciklusideje</a:t>
            </a:r>
            <a:r>
              <a:rPr b="0" lang="hu-HU" sz="1400" spc="-1" strike="noStrike">
                <a:solidFill>
                  <a:srgbClr val="984807"/>
                </a:solidFill>
                <a:latin typeface="Calibri"/>
              </a:rPr>
              <a:t> az üzembevételi engedély véglegessé válásának napján, az </a:t>
            </a:r>
            <a:r>
              <a:rPr b="0" lang="hu-HU" sz="1400" spc="-1" strike="noStrike" u="sng">
                <a:solidFill>
                  <a:srgbClr val="984807"/>
                </a:solidFill>
                <a:uFillTx/>
                <a:latin typeface="Calibri"/>
              </a:rPr>
              <a:t>üzembevételi engedélyre nem kötelezett berendezések, készülékek esetén a gyártás napján kezdődik</a:t>
            </a:r>
            <a:r>
              <a:rPr b="0" lang="hu-HU" sz="1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30A-01B1-40B9-B1C4-E47FE0A4354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:\Users\Apa\AppData\Local\Microsoft\Windows\INetCache\IE\JVKIMXR4\magnifying-glass-1141525_960_720[1].png"/>
          <p:cNvPicPr/>
          <p:nvPr/>
        </p:nvPicPr>
        <p:blipFill>
          <a:blip r:embed="rId1"/>
          <a:stretch/>
        </p:blipFill>
        <p:spPr>
          <a:xfrm>
            <a:off x="8128080" y="7920"/>
            <a:ext cx="1015920" cy="10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Calibri"/>
              </a:rPr>
              <a:t>Időszakos ellenőrzés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autógáz tartály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n a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gyártó által meghatározott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zempontok alapján ellenőrző vizsgálatot kell végez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cseppfolyós autógáz-töltetű tartályoknál a tartálynak a járművön történt üzembevételét követő minden 10. év letelte előt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sűrített földgáz- vagy egyéb gáztöltethez gyártott autógáz tartályoknál a járművön történt üzembevételt követő minden 4. év letelte előt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kriogén tartályoknál a járművön történt üzembevételt követő minden 10. év letelte előtt 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d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minden ismételt beszerelés alkalmáv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lenőrző vizsgálatnak ki kell terjednie: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z autógáz tartály gyártója által a periodikus újraminősítésre tett ajánlásokban szereplő vizsgálatokra, a külső károsodások, korrózió, mechanikai sérülések vizsgálatára és a felerősítő hevederek, védőburkolatok megfelelősségének ellenőrzésér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izsgálatot a gépjárműfenntartó tevékenység személyi és dologi feltételeiről szóló miniszteri rendelet szerinti gázüzemanyag-ellátó berendezés javítása tevékenységre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nyilvántartásba vett szervezet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(autógáz szerelő műhely) végzi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B5FD-FF28-4619-9674-651C7DCC575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utógáz tartályok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használatának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összes engedélyezett élettartam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nem lehet több, mint a gyártó által meghatározott időtartam, ennek hiányá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cseppfolyós autógáz-töltetű tartályoknál legfeljebb a gyártástól számított 15 év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sűrített földgáz- vagy egyéb gáztöltethez gyártott autógáz tartályoknál legfeljebb a gyártástól számított 20 év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kriogén tartályoknál legfeljebb a gyártástól számított 20 é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utógáz-tároló tartály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esetében az üzemeltető az üzemeltetés körülményeit figyelembe véve szükség szerint, de legalább évente időszakos ellenőrző vizsgálatot tart. Külső szerkezeti ellenőrző vizsgálatot legalább 5 évenként, a belső szerkezeti ellenőrző vizsgálatot és a nyomáspróbával történő szilárdsági ellenőrző vizsgálatot legalább 10 évenként kell elvégez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EF06-43F7-4A03-A624-27D5D1399EC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Teendők sérülés, robbanás eset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berendezéssel kapcsolatos rendkívüli eseményeket az üzemeltető köteles a Hatóságnak </a:t>
            </a:r>
            <a:r>
              <a:rPr b="0" lang="hu-HU" sz="1800" spc="-1" strike="noStrike" u="sng">
                <a:solidFill>
                  <a:srgbClr val="000000"/>
                </a:solidFill>
                <a:uFillTx/>
                <a:latin typeface="Calibri"/>
              </a:rPr>
              <a:t>haladéktalanul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bejelenteni, majd a bejelentést </a:t>
            </a:r>
            <a:r>
              <a:rPr b="0" lang="hu-HU" sz="1800" spc="-1" strike="noStrike" u="sng">
                <a:solidFill>
                  <a:srgbClr val="000000"/>
                </a:solidFill>
                <a:uFillTx/>
                <a:latin typeface="Calibri"/>
              </a:rPr>
              <a:t>24 órán belül írásban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megerősíte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z üzemeltető rendkívüli esemény esetén minden olyan intézkedést megtesz, amely a veszélyeztetést és a kár mértékét a legkisebbre korlátozza. Ezek során az emberi élet vagy testi épség, továbbá jelentős érték megóvása érdekében a helyszínt megváltoztathatja, azonban ez esetben a helyszínről rajzot vagy fényképfelvételt kell készíteni. A tárgyi bizonyítékul szolgáló eszközöket a vizsgálat lezárásának időpontjáig meg kell őriz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tóság hivatalból kivizsgálja a berendezéssel folytatott tevékenység során bekövetkezett rendkívüli eseményt. A Hatóság a vizsgálatra bizottságot alakíthat. A bizottsági munkát a Hatóságnak a vizsgálatra kijelölt képviselője irányítja. A hatósági vizsgálat nem érinti az üzemeltetőnek más jogszabályban előírt vizsgálati kötelezettségé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rendkívüli esemény kivizsgálását a bejelentés után haladéktalanul meg kell kezde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tóság a vizsgálat lezárásakor megállapítja a rendkívüli esemény okát és körülménye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8D1-4221-45B0-8255-5C713B987F9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C:\Users\Apa\AppData\Local\Microsoft\Windows\INetCache\IE\WGC4L4EV\explosion-417894_960_720[1].png"/>
          <p:cNvPicPr/>
          <p:nvPr/>
        </p:nvPicPr>
        <p:blipFill>
          <a:blip r:embed="rId1"/>
          <a:stretch/>
        </p:blipFill>
        <p:spPr>
          <a:xfrm>
            <a:off x="7667640" y="44280"/>
            <a:ext cx="1436760" cy="144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Rendkívüli esemé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Ha a hatóság a vizsgálat során azt állapítja meg, hogy a gyártással, üzemeltetéssel, kezeléssel kapcsolatban 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mulasztás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áll fenn, vagy a rendkívüli esemény bekövetkezése vétkes magatartás következménye, </a:t>
            </a:r>
            <a:r>
              <a:rPr b="1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köteles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kezdeményezni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 a szükséges </a:t>
            </a:r>
            <a:r>
              <a:rPr b="1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felelősségrevonási eljárás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gindításá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Ha a rendkívüli eseménnyel kapcsolatban büntetőeljárás is indult, a Hatóságnak a vizsgálatot ettől függetlenül le kell folytatnia, és a két eljárás során szükségessé váló együttműködést biztosítania k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hatóság a vizsgálat eredményéről részletes 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jegyzőkönyvet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készít, amelyet az üzemben tartónak is alá kell ír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Hatóság az eljárás során, a vizsgálat befejezése előtt is megtilthatja, korlátozhatja, engedélyhez kötheti a berendezés használatát, és előírhatja az újraüzembevétel feltételei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rendkívüli esemény vizsgálatával járó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költségeket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- vétkessége esetén -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az üzemben tartó viseli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C:\Documents and Settings\Demjén Lajos\Local Settings\Temporary Internet Files\Content.IE5\6ZYJE7CL\MC900346317[1].wmf"/>
          <p:cNvPicPr/>
          <p:nvPr/>
        </p:nvPicPr>
        <p:blipFill>
          <a:blip r:embed="rId1"/>
          <a:stretch/>
        </p:blipFill>
        <p:spPr>
          <a:xfrm>
            <a:off x="3929040" y="1773360"/>
            <a:ext cx="942840" cy="75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Demjén Lajos\Local Settings\Temporary Internet Files\Content.IE5\1RIDE3I2\MP900434110[1].jpg"/>
          <p:cNvPicPr/>
          <p:nvPr/>
        </p:nvPicPr>
        <p:blipFill>
          <a:blip r:embed="rId2"/>
          <a:stretch/>
        </p:blipFill>
        <p:spPr>
          <a:xfrm>
            <a:off x="3429000" y="5079960"/>
            <a:ext cx="2446200" cy="1589040"/>
          </a:xfrm>
          <a:prstGeom prst="rect">
            <a:avLst/>
          </a:prstGeom>
          <a:ln w="0">
            <a:noFill/>
          </a:ln>
        </p:spPr>
      </p:pic>
      <p:sp>
        <p:nvSpPr>
          <p:cNvPr id="260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6FF-5931-4415-81D7-A9915EA41F4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hatósági jellegű képzésekre vonatkozó eljárási szabály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űszaki biztonsági szempontjából jelentős ipari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szakképesítések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nyomástartó berendezés kezelőj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nyomástartó berendezés vizsgáló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Ötévenkén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továbbképzés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kell elvégezn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nyomástartó berendezés kezelőj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nyomástartó berendezés vizsgáló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 nyomástartó edény gépés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hatósági jellegű képzés felügyeletét ellátó Budapest Főváros Korm.hivatala által kiadott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engedélye alapján tartható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861D-34AA-4C75-8292-0A9BD895CEA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C:\Users\Apa\AppData\Local\Microsoft\Windows\INetCache\IE\RY803IYK\dualis_kepzes_konferencia12_gs[1].jpg"/>
          <p:cNvPicPr/>
          <p:nvPr/>
        </p:nvPicPr>
        <p:blipFill>
          <a:blip r:embed="rId1"/>
          <a:stretch/>
        </p:blipFill>
        <p:spPr>
          <a:xfrm>
            <a:off x="6661080" y="2708280"/>
            <a:ext cx="165600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 Műszaki Biztonsági Szabály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Műszaki Biztonsági Szabályzat célja, hogy az e rendelet hatálya alá tartozó berendezések létesítése, üzembevétele, üzemeltetése, cseréje, átalakítása, javítása, áthelyezése, vizsgálata és megszüntetése során betartandó, a megfelelő biztonsággal és megbízhatósággal kapcsolatos műszaki követelményeket meghatározza. (jelenleg a rendelet 2. sz. mellékletében van!) A Műszaki Biztonsági Szabályzat módosításának előzetes szakmai egyeztetését a Nyomástartó Berendezés Műszaki Szakbizottság végz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akbizottság a következő szervezetek által delegált 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szakemberekből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ál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a műszaki biztonsági feladatkörében eljáró Budapest Főváros Kormányhivatala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Magyar Ásványolaj Szövetség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Magyar Ipari Gáz Szövetség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d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Magyar Mérnöki Kamara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e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Magyar PB Gázipari Egyesület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f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Magyar Tartálytechnikai és Nyomástartó Berendezés Szövetség: 1 fő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Calibri"/>
              </a:rPr>
              <a:t>g)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 a szakterületen működő egyéb, a miniszter által felkért civil szervezetek: 1-1 fő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akbizottság tagjait az iparügyekért felelős miniszter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5 év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időtartamra bízza m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Műszaki Biztonsági Szabályzatban foglalt egyes műszaki előírásoktól, a hivatkozott szabványoktól a tervező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eltérhet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, ha a Műszaki Biztonsági Szabályzat 9. pontja alapján igazolja a Hatóság előtt, hogy a Műszaki Biztonsági Szabályzat előírásai szerint elérhető műszaki 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biztonsági szintet más módon is biztosítani tudja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. A megfelelő műszaki biztonsági szint eléréséről, fenntartásáról a tervezőnek, a kivitelezőnek, a berendezés üzemeltetőjének a hatósági eljárás során írásban nyilatkoznia k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2E0-9486-472A-A33A-378B14E78F0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:\Users\Apa\AppData\Local\Microsoft\Windows\INetCache\IE\RY803IYK\paragraph-symbol-rules[1].jpg"/>
          <p:cNvPicPr/>
          <p:nvPr/>
        </p:nvPicPr>
        <p:blipFill>
          <a:blip r:embed="rId1"/>
          <a:stretch/>
        </p:blipFill>
        <p:spPr>
          <a:xfrm>
            <a:off x="7596360" y="3141720"/>
            <a:ext cx="1096920" cy="121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Nyomástartó berendezések állami felügyel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Volt Magyar Bányászati Hiv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vantGarde Md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Volt Bányakapitányságok (most Kormányhivatali Osztályok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Miskolc, Pécs, Szolnok, Veszpré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Megszűnt: Magyar Kereskedelmi és Engedélyezési Hivatal és a </a:t>
            </a:r>
            <a:r>
              <a:rPr b="1" lang="hu-HU" sz="2000" spc="-1" strike="noStrike">
                <a:solidFill>
                  <a:srgbClr val="000000"/>
                </a:solidFill>
                <a:latin typeface="AvantGarde Md BT"/>
              </a:rPr>
              <a:t>Korm. Hivatalok, Területi Műszaki Biztonsági Hatóságai</a:t>
            </a: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Budapest, Debrecen, Győr,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vantGarde Md BT"/>
              </a:rPr>
              <a:t>Miskolc</a:t>
            </a:r>
            <a:r>
              <a:rPr b="0" lang="hu-HU" sz="2000" spc="-1" strike="noStrike">
                <a:solidFill>
                  <a:srgbClr val="000000"/>
                </a:solidFill>
                <a:latin typeface="AvantGarde Md BT"/>
              </a:rPr>
              <a:t>, Pécs, Szeged, Székesfehérv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vantGarde Md BT"/>
              </a:rPr>
              <a:t>Jelenleg</a:t>
            </a:r>
            <a:r>
              <a:rPr b="0" lang="hu-HU" sz="2800" spc="-1" strike="noStrike">
                <a:solidFill>
                  <a:srgbClr val="000000"/>
                </a:solidFill>
                <a:latin typeface="AvantGarde Md BT"/>
              </a:rPr>
              <a:t>: Mérésügyi é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vantGarde Md BT"/>
              </a:rPr>
              <a:t>Műszaki Biztonsági Osztályok</a:t>
            </a:r>
            <a:r>
              <a:rPr b="0" lang="hu-HU" sz="2800" spc="-1" strike="noStrike">
                <a:solidFill>
                  <a:srgbClr val="000000"/>
                </a:solidFill>
                <a:latin typeface="AvantGarde Md BT"/>
              </a:rPr>
              <a:t> a kiemelt járások főosztályain elhelyezve. – újabb változás várható 2020-tól. </a:t>
            </a:r>
            <a:r>
              <a:rPr b="0" lang="hu-HU" sz="2400" spc="-1" strike="noStrike">
                <a:solidFill>
                  <a:srgbClr val="000000"/>
                </a:solidFill>
                <a:latin typeface="AvantGarde Md BT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vantGarde Md BT"/>
              </a:rPr>
              <a:t>Miskolcon: 3 megye (BAZ, Heves, Nógrád) feladatellá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990-E1D8-4161-8606-FC99F4410DB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Apa\AppData\Local\Microsoft\Windows\INetCache\IE\WGC4L4EV\1280px-Hungary_location_map.svg[1].png"/>
          <p:cNvPicPr/>
          <p:nvPr/>
        </p:nvPicPr>
        <p:blipFill>
          <a:blip r:embed="rId1"/>
          <a:stretch/>
        </p:blipFill>
        <p:spPr>
          <a:xfrm>
            <a:off x="7308720" y="5726160"/>
            <a:ext cx="1835280" cy="113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Apa\AppData\Local\Microsoft\Windows\INetCache\IE\RY803IYK\1426425990[1].png"/>
          <p:cNvPicPr/>
          <p:nvPr/>
        </p:nvPicPr>
        <p:blipFill>
          <a:blip r:embed="rId2"/>
          <a:stretch/>
        </p:blipFill>
        <p:spPr>
          <a:xfrm>
            <a:off x="0" y="5776920"/>
            <a:ext cx="190800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Ismétlő kérdése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i a P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lyik jogszabályok szabályozzák a nyomástartó és töltő berendezések műszaki-biztonsági hatósági felügyeletét Magyarországon, és ez hogyan épül fel (főbb pontok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ogyan soroljuk be a nyomástartó berendezéseket kategóriába a hatósági felügyelet szempontjából, hány kategóriát ismer, melyek eze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ilyen hatósági eljárásokat ismer? Röviden ezeket ismerte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dőszakos hatósági ellenőrzések ciklusidejei és ezektől való eltérése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863-97B2-4017-90DF-8C8BA3C5CBF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Apa\AppData\Local\Microsoft\Windows\INetCache\IE\42Y3EGE9\question-mark-1019922_960_720[1].jpg"/>
          <p:cNvPicPr/>
          <p:nvPr/>
        </p:nvPicPr>
        <p:blipFill>
          <a:blip r:embed="rId1"/>
          <a:stretch/>
        </p:blipFill>
        <p:spPr>
          <a:xfrm>
            <a:off x="7164360" y="5013360"/>
            <a:ext cx="1519200" cy="151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Elérhetőségem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Demjén Laj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műszaki-biztonsági szakügyintéző, szakértő főtanács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B.-A.-Z. Megyei Kormányhiv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iskolci Járási Hivata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özlekedési és Fogyasztóvédelmi Főoszt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érésügyi é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Műszaki Biztonsági Osztály (15 betű 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3526 Miskolc, Szeles u. 6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46/340-440, muszaki@borsod.gov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137A-2146-4907-857E-9A47A66E7C8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:\Users\Apa\AppData\Local\Microsoft\Windows\INetCache\IE\WGC4L4EV\koszonom[1].jpg"/>
          <p:cNvPicPr/>
          <p:nvPr/>
        </p:nvPicPr>
        <p:blipFill>
          <a:blip r:embed="rId1"/>
          <a:stretch/>
        </p:blipFill>
        <p:spPr>
          <a:xfrm>
            <a:off x="7308720" y="4941720"/>
            <a:ext cx="1676520" cy="18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Nyomástartó berendezések – jogi szabályoz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P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39640" y="1773360"/>
            <a:ext cx="3600720" cy="1079280"/>
          </a:xfrm>
          <a:prstGeom prst="downArrowCallout">
            <a:avLst>
              <a:gd name="adj1" fmla="val 83413"/>
              <a:gd name="adj2" fmla="val 83406"/>
              <a:gd name="adj3" fmla="val 16667"/>
              <a:gd name="adj4" fmla="val 6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eeece1"/>
                </a:solidFill>
                <a:latin typeface="Arial"/>
              </a:rPr>
              <a:t>97/23/EC  IRÁNYE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ile0141"/>
          <p:cNvPicPr/>
          <p:nvPr/>
        </p:nvPicPr>
        <p:blipFill>
          <a:blip r:embed="rId1"/>
          <a:stretch/>
        </p:blipFill>
        <p:spPr>
          <a:xfrm>
            <a:off x="1042920" y="2997360"/>
            <a:ext cx="2665440" cy="1738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727280" y="3573360"/>
            <a:ext cx="1332000" cy="459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44/2016. (XI.28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GM rende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539640" y="4941720"/>
            <a:ext cx="3600720" cy="1152720"/>
          </a:xfrm>
          <a:prstGeom prst="upArrowCallout">
            <a:avLst>
              <a:gd name="adj1" fmla="val 78099"/>
              <a:gd name="adj2" fmla="val 78092"/>
              <a:gd name="adj3" fmla="val 16667"/>
              <a:gd name="adj4" fmla="val 6666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eeece1"/>
                </a:solidFill>
                <a:latin typeface="Arial"/>
              </a:rPr>
              <a:t>Tervez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eeece1"/>
                </a:solidFill>
                <a:latin typeface="Arial"/>
              </a:rPr>
              <a:t>Gyártá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eeece1"/>
                </a:solidFill>
                <a:latin typeface="Arial"/>
              </a:rPr>
              <a:t>Megfelelőség értékel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eeece1"/>
                </a:solidFill>
                <a:latin typeface="Arial"/>
              </a:rPr>
              <a:t>EU Tanús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5003640" y="1846440"/>
            <a:ext cx="3457800" cy="718920"/>
          </a:xfrm>
          <a:prstGeom prst="flowChartProcess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1993. évi XLVIII. törvé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 bányászatról és a ….. (műszaki bizt. tv.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File0141"/>
          <p:cNvPicPr/>
          <p:nvPr/>
        </p:nvPicPr>
        <p:blipFill>
          <a:blip r:embed="rId2"/>
          <a:stretch/>
        </p:blipFill>
        <p:spPr>
          <a:xfrm>
            <a:off x="5508720" y="2997360"/>
            <a:ext cx="2519280" cy="1728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6084720" y="3357720"/>
            <a:ext cx="1368720" cy="100656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23/2006. (II.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rm. rend., és 2/2016. (I.5.) GM rend., 213/2019. (VIII.27.) Korm.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076720" y="5300640"/>
            <a:ext cx="1008000" cy="719280"/>
          </a:xfrm>
          <a:prstGeom prst="rect">
            <a:avLst/>
          </a:prstGeom>
          <a:solidFill>
            <a:srgbClr val="d9969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Létesít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Üzemb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vé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6300720" y="5300640"/>
            <a:ext cx="1008000" cy="71928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Üzemeltet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Ellenőrz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Nyilvántar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524720" y="5300640"/>
            <a:ext cx="1008000" cy="71928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Üzemen kívü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elyezé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Megszünte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V="1">
            <a:off x="6804000" y="4724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 flipH="1" flipV="1">
            <a:off x="6948000" y="4723920"/>
            <a:ext cx="1008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 flipV="1">
            <a:off x="5580000" y="4723920"/>
            <a:ext cx="1079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0"/>
          <p:cNvSpPr/>
          <p:nvPr/>
        </p:nvSpPr>
        <p:spPr>
          <a:xfrm>
            <a:off x="3995640" y="3645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1"/>
          <p:cNvSpPr/>
          <p:nvPr/>
        </p:nvSpPr>
        <p:spPr>
          <a:xfrm>
            <a:off x="5796000" y="2565360"/>
            <a:ext cx="194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ia számának helye 18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189B-74F7-46F6-A01C-06FFD4AF50F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 Black"/>
              </a:rPr>
              <a:t>Jogszabályi hátté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 Black"/>
              </a:rPr>
              <a:t>44/2016. (XI.28.) NGM rendele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a nyomástartó berendezések és rendszerek biztonsági követelményeiről és megfelelőség tanúsításáró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23/2006. (II.3.) Korm. rendele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a bányafelügyelet hatáskörébe tartozó egyes nyomástartó berendezések hatósági felügyeletérő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365/2016. (XI. 29.) Korm. rendelet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Budapest Főváros Kormányhivatalának egyes ipari és kereskedelmi ügyekben eljáró hatóságként történő kijelöléséről, valamint a területi mérésügyi és műszaki biztonsági hatóságokró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DBA-DE61-4B5C-9687-C9260C417DA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Black"/>
              </a:rPr>
              <a:t>Jogszabályi hátté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31/2014. (II. 12.) Korm. Rendele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z egyes sajátos ipari építményekre vonatkozó építésügyi hatósági eljárások szabályairól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(5.sz. melléklet - alsó hatá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35/2014. (XI. 19.) NGM rendelet egyes szállítható nyomástartó berendezések üzemeltetésével kapcsolatos műszaki biztonsági követelményekről és a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Gázpalack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Biztonsági Szabályzatró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29/2011. (VIII. 3.) NGM rendelet a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szállítható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nyomástartó berendezések biztonsági követelményeiről és megfelelőség-tanúsításáró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552-B139-4E37-BDE7-460D4DBE72D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Black"/>
              </a:rPr>
              <a:t>Jogszabályi hátté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 Black"/>
              </a:rPr>
              <a:t>2/2016. (I. 5.) NGM rendelet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a nyomástartó berendezések, a töltő berendezések, a kisteljesítményű sűrített gáztöltő berendezések műszaki-biztonsági hatósági felügyeletéről és az autógáz tartályok időszakos ellenőrzésérő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 Black"/>
              </a:rPr>
              <a:t>213/2019. (VIII. 27.) Korm. Rendelet 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nyomástartó berendezések, rendszerek és létesítmények műszaki-biztonsági hatósági felügyeletérő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22F-29B4-48E9-A540-99C4F6B1E9A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44/2016. (XI.28.) NGM rendel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 rendelet hatálya az olyan nyomástartó berendezés és rendszer, valamint az egyszerű nyomástartó edény </a:t>
            </a: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tervezésére, gyártására, megfelelőségének értékelésére, forgalmazására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terjed ki, amelyben a legnagyobb megengedhető nyomás (PS) 0,5 bart meghaladja, valamint az ezeket </a:t>
            </a: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tervező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gyártó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forgalmazó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és </a:t>
            </a:r>
            <a:r>
              <a:rPr b="0" lang="hu-HU" sz="3200" spc="-1" strike="noStrike" u="sng">
                <a:solidFill>
                  <a:srgbClr val="000000"/>
                </a:solidFill>
                <a:uFillTx/>
                <a:latin typeface="Calibri"/>
              </a:rPr>
              <a:t>importáló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természetes és jogi személy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9C1-E123-4C9F-B2C3-8BDEDCEE7C1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\Users\Apa\AppData\Local\Microsoft\Windows\INetCache\IE\JVKIMXR4\cimkep_kicsi[1].png"/>
          <p:cNvPicPr/>
          <p:nvPr/>
        </p:nvPicPr>
        <p:blipFill>
          <a:blip r:embed="rId1"/>
          <a:stretch/>
        </p:blipFill>
        <p:spPr>
          <a:xfrm>
            <a:off x="8172360" y="5369040"/>
            <a:ext cx="971640" cy="148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44/2016.(XI.28.) NGM rendel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Veszélyességi kategóriá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ehet   I., II., III., IV. kategó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ategóriába sorolás a töltet típusa (gáz v. folyadék), veszélyes v. nem veszélyes, a PS, a V és a PS×V szorzat értéke szer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al oldalon az 1. ábra (veszélyes gáz töltet),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Calibri"/>
              </a:rPr>
              <a:t>összesen 9 db ábra van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1-4. tartály típu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5. Kaz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6-9. csővezeték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Ábra_Magyar közlöny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091040"/>
          </a:xfrm>
          <a:prstGeom prst="rect">
            <a:avLst/>
          </a:prstGeom>
          <a:ln w="0">
            <a:noFill/>
          </a:ln>
        </p:spPr>
      </p:pic>
      <p:sp>
        <p:nvSpPr>
          <p:cNvPr id="174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1A0-021D-4C17-AFF3-383713D58D0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C:\Users\Apa\AppData\Local\Microsoft\Windows\INetCache\IE\42Y3EGE9\1200px-Kociol_parowy_lokomobilowy_typ_Ln2_skansen_kopalniatg_20070627[1].jpg"/>
          <p:cNvPicPr/>
          <p:nvPr/>
        </p:nvPicPr>
        <p:blipFill>
          <a:blip r:embed="rId2"/>
          <a:stretch/>
        </p:blipFill>
        <p:spPr>
          <a:xfrm>
            <a:off x="7286760" y="5486400"/>
            <a:ext cx="1834920" cy="1376280"/>
          </a:xfrm>
          <a:prstGeom prst="rect">
            <a:avLst/>
          </a:prstGeom>
          <a:ln w="0">
            <a:noFill/>
          </a:ln>
        </p:spPr>
      </p:pic>
      <p:sp>
        <p:nvSpPr>
          <p:cNvPr id="176" name="Egyenes összekötő 2"/>
          <p:cNvSpPr/>
          <p:nvPr/>
        </p:nvSpPr>
        <p:spPr>
          <a:xfrm flipV="1">
            <a:off x="2050920" y="1773000"/>
            <a:ext cx="0" cy="1942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gyenes összekötő 7"/>
          <p:cNvSpPr/>
          <p:nvPr/>
        </p:nvSpPr>
        <p:spPr>
          <a:xfrm>
            <a:off x="2050920" y="3716280"/>
            <a:ext cx="936720" cy="1081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gyenes összekötő 9"/>
          <p:cNvSpPr/>
          <p:nvPr/>
        </p:nvSpPr>
        <p:spPr>
          <a:xfrm>
            <a:off x="2987640" y="4797360"/>
            <a:ext cx="1584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zövegdoboz 10"/>
          <p:cNvSpPr/>
          <p:nvPr/>
        </p:nvSpPr>
        <p:spPr>
          <a:xfrm>
            <a:off x="2987640" y="292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84807"/>
                </a:solidFill>
                <a:latin typeface="Arial"/>
              </a:rPr>
              <a:t>HATÓ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zövegdoboz 13"/>
          <p:cNvSpPr/>
          <p:nvPr/>
        </p:nvSpPr>
        <p:spPr>
          <a:xfrm>
            <a:off x="201600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84807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gyenes összekötő 3"/>
          <p:cNvSpPr/>
          <p:nvPr/>
        </p:nvSpPr>
        <p:spPr>
          <a:xfrm>
            <a:off x="4716360" y="5429160"/>
            <a:ext cx="237672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5:50:06Z</dcterms:created>
  <dc:creator>Demjén Lajos</dc:creator>
  <dc:description/>
  <dc:language>en-US</dc:language>
  <cp:lastModifiedBy>Apa</cp:lastModifiedBy>
  <dcterms:modified xsi:type="dcterms:W3CDTF">2019-10-27T18:47:22Z</dcterms:modified>
  <cp:revision>88</cp:revision>
  <dc:subject/>
  <dc:title>A jelen időszak szabályozása</dc:title>
</cp:coreProperties>
</file>